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C3D9-BCDB-446E-A3F6-587A8883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A4C-2BDD-427B-9E42-D723F857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6FAC-0403-4BC3-84DD-90840334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D7B-3E5E-4C17-A291-2F01F7DE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70D2-0765-479C-9E55-54ECFB32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2D0-24C6-4A70-9DBF-22A89004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87A-13F2-4ED1-B40B-079E0CA5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32E5-2023-48B2-8DF6-DEE024BB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D3E-0B35-4F33-8F01-7E5E8BB8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DF0-4446-444C-ACD0-6D476649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9F1-BCC4-433B-94C4-A3AF0EE7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105-FE54-4947-B3CD-9FBAE033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B9FC-6E57-42EA-A2FD-83AB31AC5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orgeworld.com/html/margret.html" TargetMode="External"/><Relationship Id="rId3" Type="http://schemas.openxmlformats.org/officeDocument/2006/relationships/hyperlink" Target="http://www.georgeworld.com/html/margret.html" TargetMode="External"/><Relationship Id="rId4" Type="http://schemas.openxmlformats.org/officeDocument/2006/relationships/hyperlink" Target="http://www.georgeworld.com/html/margret.html" TargetMode="External"/><Relationship Id="rId5" Type="http://schemas.openxmlformats.org/officeDocument/2006/relationships/hyperlink" Target="http://www.georgeworld.com/html/margret.html" TargetMode="External"/><Relationship Id="rId6" Type="http://schemas.openxmlformats.org/officeDocument/2006/relationships/hyperlink" Target="http://www.georgeworld.com/html/margret.html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hyperlink" Target="http://www.georgeworld.com/" TargetMode="External"/><Relationship Id="rId4" Type="http://schemas.openxmlformats.org/officeDocument/2006/relationships/hyperlink" Target="http://www.georgeworld.com/" TargetMode="External"/><Relationship Id="rId5" Type="http://schemas.openxmlformats.org/officeDocument/2006/relationships/hyperlink" Target="http://www.georgeworld.com/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eotitle2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8020080" cy="2087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7400" y="297180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By H.A. R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geo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1447920" cy="1431720"/>
          </a:xfrm>
          <a:prstGeom prst="rect">
            <a:avLst/>
          </a:prstGeom>
          <a:ln w="0">
            <a:noFill/>
          </a:ln>
        </p:spPr>
      </p:pic>
      <p:pic>
        <p:nvPicPr>
          <p:cNvPr id="44" name="geohand" descr=""/>
          <p:cNvPicPr/>
          <p:nvPr/>
        </p:nvPicPr>
        <p:blipFill>
          <a:blip r:embed="rId4"/>
          <a:stretch/>
        </p:blipFill>
        <p:spPr>
          <a:xfrm>
            <a:off x="1676520" y="3429000"/>
            <a:ext cx="227808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geobikesm" descr=""/>
          <p:cNvPicPr/>
          <p:nvPr/>
        </p:nvPicPr>
        <p:blipFill>
          <a:blip r:embed="rId5"/>
          <a:stretch/>
        </p:blipFill>
        <p:spPr>
          <a:xfrm>
            <a:off x="5410080" y="3962520"/>
            <a:ext cx="2895840" cy="2652480"/>
          </a:xfrm>
          <a:prstGeom prst="rect">
            <a:avLst/>
          </a:prstGeom>
          <a:ln w="0">
            <a:noFill/>
          </a:ln>
        </p:spPr>
      </p:pic>
      <p:pic>
        <p:nvPicPr>
          <p:cNvPr id="46" name="bye" descr=""/>
          <p:cNvPicPr/>
          <p:nvPr/>
        </p:nvPicPr>
        <p:blipFill>
          <a:blip r:embed="rId6"/>
          <a:stretch/>
        </p:blipFill>
        <p:spPr>
          <a:xfrm>
            <a:off x="7238880" y="414360"/>
            <a:ext cx="1600200" cy="1490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2860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Jester"/>
              </a:rPr>
              <a:t>Curious George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was written and illustrated by H.A. Rey.  Here is a picture of H.A. Rey and his wife, Margr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reypic" descr=""/>
          <p:cNvPicPr/>
          <p:nvPr/>
        </p:nvPicPr>
        <p:blipFill>
          <a:blip r:embed="rId2"/>
          <a:stretch/>
        </p:blipFill>
        <p:spPr>
          <a:xfrm>
            <a:off x="2514600" y="2870280"/>
            <a:ext cx="4267080" cy="3911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04920"/>
            <a:ext cx="9144000" cy="67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Jester"/>
              </a:rPr>
              <a:t>Curious George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was born in 1941.  It was the first in a series of books about a lovable little monkey named George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Margret and H.A. Rey collaborated on several more </a:t>
            </a:r>
            <a:r>
              <a:rPr b="0" i="1" lang="en-US" sz="3600" spc="-1" strike="noStrike">
                <a:solidFill>
                  <a:srgbClr val="000000"/>
                </a:solidFill>
                <a:latin typeface="Jester"/>
              </a:rPr>
              <a:t>Curious George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boo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If you’d like to learn more about the authors, go to: 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Jester"/>
                <a:hlinkClick r:id="rId2"/>
              </a:rPr>
              <a:t>http://www.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Jester"/>
                <a:hlinkClick r:id="rId3"/>
              </a:rPr>
              <a:t>georgeworld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Jester"/>
                <a:hlinkClick r:id="rId4"/>
              </a:rPr>
              <a:t>.com/html/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Jester"/>
                <a:hlinkClick r:id="rId5"/>
              </a:rPr>
              <a:t>margret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Jester"/>
                <a:hlinkClick r:id="rId6"/>
              </a:rPr>
              <a:t>.ht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1geoLaughing" descr=""/>
          <p:cNvPicPr/>
          <p:nvPr/>
        </p:nvPicPr>
        <p:blipFill>
          <a:blip r:embed="rId7"/>
          <a:stretch/>
        </p:blipFill>
        <p:spPr>
          <a:xfrm>
            <a:off x="755640" y="1447920"/>
            <a:ext cx="1149480" cy="1714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eotitle2" descr=""/>
          <p:cNvPicPr/>
          <p:nvPr/>
        </p:nvPicPr>
        <p:blipFill>
          <a:blip r:embed="rId2"/>
          <a:stretch/>
        </p:blipFill>
        <p:spPr>
          <a:xfrm>
            <a:off x="1981080" y="152280"/>
            <a:ext cx="5334120" cy="1447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90920" y="1371600"/>
            <a:ext cx="3886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is the action-filled story of a lovable  little monkey whose curiosity gets the best of him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eo-pjs" descr=""/>
          <p:cNvPicPr/>
          <p:nvPr/>
        </p:nvPicPr>
        <p:blipFill>
          <a:blip r:embed="rId3"/>
          <a:stretch/>
        </p:blipFill>
        <p:spPr>
          <a:xfrm>
            <a:off x="6019920" y="4035600"/>
            <a:ext cx="3047760" cy="2593800"/>
          </a:xfrm>
          <a:prstGeom prst="rect">
            <a:avLst/>
          </a:prstGeom>
          <a:ln w="0">
            <a:noFill/>
          </a:ln>
        </p:spPr>
      </p:pic>
      <p:pic>
        <p:nvPicPr>
          <p:cNvPr id="54" name="geosmoke" descr=""/>
          <p:cNvPicPr/>
          <p:nvPr/>
        </p:nvPicPr>
        <p:blipFill>
          <a:blip r:embed="rId4"/>
          <a:stretch/>
        </p:blipFill>
        <p:spPr>
          <a:xfrm>
            <a:off x="380880" y="3505320"/>
            <a:ext cx="2330640" cy="3324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46483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While living in Africa, George is captured by a man in a yellow hat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41148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3429000"/>
            <a:ext cx="4114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He’s taken in a ship to a big city where it’s hard for him to stay out of trou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geo-hat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3962520" cy="2705040"/>
          </a:xfrm>
          <a:prstGeom prst="rect">
            <a:avLst/>
          </a:prstGeom>
          <a:ln w="0">
            <a:noFill/>
          </a:ln>
        </p:spPr>
      </p:pic>
      <p:pic>
        <p:nvPicPr>
          <p:cNvPr id="59" name="geo1" descr=""/>
          <p:cNvPicPr/>
          <p:nvPr/>
        </p:nvPicPr>
        <p:blipFill>
          <a:blip r:embed="rId3"/>
          <a:stretch/>
        </p:blipFill>
        <p:spPr>
          <a:xfrm>
            <a:off x="4876920" y="380880"/>
            <a:ext cx="3809880" cy="2833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720" y="0"/>
            <a:ext cx="693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From problems with the fire department to a prison escape to a ride over the city, George always manages to make mischie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geo-fmen" descr=""/>
          <p:cNvPicPr/>
          <p:nvPr/>
        </p:nvPicPr>
        <p:blipFill>
          <a:blip r:embed="rId2"/>
          <a:stretch/>
        </p:blipFill>
        <p:spPr>
          <a:xfrm>
            <a:off x="1447920" y="3141720"/>
            <a:ext cx="5715000" cy="3884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4572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Eventually George ends up living happily 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zoo150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5486400" cy="5333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66680" y="0"/>
            <a:ext cx="7010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Want to find out more about Curious George and his adventur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Go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Title" descr=""/>
          <p:cNvPicPr/>
          <p:nvPr/>
        </p:nvPicPr>
        <p:blipFill>
          <a:blip r:embed="rId2"/>
          <a:stretch/>
        </p:blipFill>
        <p:spPr>
          <a:xfrm>
            <a:off x="1295280" y="2558880"/>
            <a:ext cx="6629400" cy="208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47920" y="4876920"/>
            <a:ext cx="624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Jester"/>
                <a:hlinkClick r:id="rId3"/>
              </a:rPr>
              <a:t>http://www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Jester"/>
                <a:hlinkClick r:id="rId4"/>
              </a:rPr>
              <a:t>georgeworld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Jester"/>
                <a:hlinkClick r:id="rId5"/>
              </a:rPr>
              <a:t>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bye" descr=""/>
          <p:cNvPicPr/>
          <p:nvPr/>
        </p:nvPicPr>
        <p:blipFill>
          <a:blip r:embed="rId2"/>
          <a:stretch/>
        </p:blipFill>
        <p:spPr>
          <a:xfrm>
            <a:off x="6858000" y="136440"/>
            <a:ext cx="1981080" cy="1844640"/>
          </a:xfrm>
          <a:prstGeom prst="rect">
            <a:avLst/>
          </a:prstGeom>
          <a:ln w="0">
            <a:noFill/>
          </a:ln>
        </p:spPr>
      </p:pic>
      <p:pic>
        <p:nvPicPr>
          <p:cNvPr id="69" name="cgend" descr=""/>
          <p:cNvPicPr/>
          <p:nvPr/>
        </p:nvPicPr>
        <p:blipFill>
          <a:blip r:embed="rId3"/>
          <a:srcRect l="8919" t="0" r="0" b="8930"/>
          <a:stretch/>
        </p:blipFill>
        <p:spPr>
          <a:xfrm>
            <a:off x="1295280" y="304920"/>
            <a:ext cx="7010640" cy="5607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1T01:55:20Z</dcterms:created>
  <dc:creator>Thomas Pohlman</dc:creator>
  <dc:description/>
  <dc:language>en-US</dc:language>
  <cp:lastModifiedBy>Elisa Wern</cp:lastModifiedBy>
  <dcterms:modified xsi:type="dcterms:W3CDTF">2004-01-18T03:29:57Z</dcterms:modified>
  <cp:revision>7</cp:revision>
  <dc:subject/>
  <dc:title>No Slide Title</dc:title>
</cp:coreProperties>
</file>